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434-2027-4A7F-88C7-04D239E5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4D9-ABF2-4623-85C1-0BB65FFA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2402F-4C7D-4DF7-BFF8-C4708516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B8265-F693-45AA-8428-68AEB6B5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36C1F-E815-485B-B823-D749723A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D730F-8890-48D9-B111-9BAF7D0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5D75E-C9D4-4A9C-A8D8-E33CE34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9A959-8FA1-4AB1-B42A-1B05B83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5A4A1-A886-409A-88CB-A0FE52A3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BC88D-C30D-48AB-97F5-8EF2AE60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65AE8-8E48-4A81-AA5C-57F7B813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F666C-5A46-4F57-89B6-2D9D6D1C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042-F06C-4982-BEAE-4B8886AE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AE36B-D907-4D02-B126-228954F0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D546-BA01-45F2-814D-57B13F7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34093-492E-4228-AC36-4D10100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2219D-7A07-4FED-B3BC-4C83626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F58BD-FE22-47F5-8C96-DC156FE4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60B03-A5F7-4681-A477-FEF36E6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818E6-C16B-4095-AD34-79DBAB56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90EE5-162B-4C1A-823D-D24B523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6A6D2-5F59-45F5-8FFA-0C472233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254EA-236A-4D74-BBF1-32836554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0F9-7B00-4DFE-AC7B-1CE16E84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33F1F-007C-43D2-9DF1-D06FF1F3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F5DB1-193C-4469-A2D6-E133E584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99720-C3DC-4798-AF88-8459B8BF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1B333-E9C5-4964-8A13-63BA5FCE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C1A8D-2687-46FB-A52E-B5B0F06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B3DDE-4693-4A4F-9996-E9B3C511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47C92-FA9E-4013-AF72-E799E652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B1F29-1543-407B-9892-285BDA35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88218-2132-48D1-A579-D893D49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B94CF-DFCE-49A8-8FCC-47BE16F3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074F-6E41-4EC5-943F-B562FD84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A372A-9630-40A9-BE2F-E235ED77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306CF-1C71-4AB6-A7EA-0ECD94E3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CCDF1-A248-41F1-9283-C0BDE37A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FC269-ACF4-4D0A-B651-4295F0EB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D2337-A32D-464A-A49A-0BE4523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5F7CE-A6CD-474F-BEBE-56A47216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B2BED-3CD0-44E7-B8AA-25920601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4BA91-3492-4BD3-82CB-EF5C5FD3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2B601-10A4-4586-B7DD-C78CBDD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D254E-C089-4EBA-A6D9-3DE24AE7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2D6A-18B7-48FE-B273-24FC3729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640D8-72A9-4D23-ACAE-C03763B5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05569-5751-4873-B37E-30AA7E0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5C322-5971-4CDC-A789-D220F6C6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1CE6C-9C9B-41DF-A8F4-B25C59D4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71342-23B7-4788-9557-12E33A21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4B5A-816C-4E7E-85D9-1E953C9C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3723-CEA9-4D61-99DB-23BB1A60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D750-5E80-4B74-A5F3-E73B4DE9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0BA2-CB0D-4DAE-BC79-8008D7E0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E281-07A2-4EC0-8342-32F88F5A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966-D99F-4247-BBEB-9EBA43E3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577A-3A66-4C28-A76D-0FE8D87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510E-1FDB-476D-B8DA-F03EEE3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0673-1158-45E7-B534-CCF6F50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85AC-0526-4C6D-8883-FF312DF1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965A-0174-4414-862A-FEC9F903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5C57-1257-43B8-8D89-29FEEB9A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3235-2E66-4AAB-A9EB-F6FA821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F995-07E4-464F-9A83-F2829570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921F-D7E2-40EE-BA38-D10701DE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1530-DC74-48CD-9BCF-3229E9E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47F-B485-4FFC-9351-4B699CF4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95C4-383A-4FE1-A15F-90D8EB76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5022-6756-4753-8C28-20E72810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17E3-CA08-4BD7-88AD-4CAE5F5C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FE8E-B973-496F-A827-97316E76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60BF9-1F29-4A4B-ABCB-9D123818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8B59-2D71-4F89-885C-51ECA772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8261-448C-42D3-9F45-065C3B89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C6793-78EF-4001-99D6-6B8C97D9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6E1D-7A9E-45FB-9642-25F1DBA7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69A40-9B2F-4C64-A59F-BAB8BD1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D52-9545-437C-AA1E-03D163F6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A21B-5002-42AA-9950-E7346DF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9EFC8-DFA2-44D8-8E9E-62FC9CEC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D0D3-8050-4D14-9246-51ADF58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D9641-28A4-4136-9118-EBC971B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3520-79DF-4961-B7B3-1254791F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DD83-B436-4822-9875-C8756444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5187C-54DB-4234-B888-A6CF3269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1255-0928-4D7F-8D04-C2651248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D6BDB-F7E9-4897-998F-6EE67680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33B0-A9B1-4D94-9916-121798D5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02D-ADE7-43B3-B34C-4EDF5721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10F53-9C8E-40C4-AEEB-E33074D9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48F26-9ABC-43CF-B9E3-08DABEDC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EDC2A-317B-4F5D-A07F-48DCF95C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D4C85-9519-43B3-A780-621B8F4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4D18-3249-4F8A-BBEA-C1C64CC3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77A2-9F26-43E9-A187-758556C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18C28-F52F-47CF-80CD-882913FC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72616-C48B-4EAB-8D94-460EDB7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DD298-DA1E-4FF4-8433-4B53C29D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51F40-C723-45AD-A2C2-2ED2341E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065-9DBA-4B1C-A13D-E2D867C6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19A8-8755-4259-B752-3821FECE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3D96A-BE9D-4E17-8402-309893BB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5267-E85B-47D1-90B4-57FCCB6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E5B4-77B4-4BF1-92C6-766AD480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BA943-D232-471A-96A0-EC2D0C88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D7304-C60D-41C4-A7BC-EC491F8A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C003-A9FB-4DFD-BADF-8B503105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CA079-ADA0-412B-8853-FEE412B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A823-8E5E-4A02-8D3C-9867BC7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2CA0-9C16-447F-B58D-60D942F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E54-D122-42FF-9877-203BBFA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6C00A-72F7-42DE-BF1E-2251D025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FA9DD-6E9A-45A6-8EDF-5BA10FBB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6CE6-B89F-485D-A4C8-C58AD26F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43AF-76D0-4EA3-94FF-478A873C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C7361-6915-4687-8D9A-7A6B834C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5E53-8C59-480E-B868-4FCFFCD3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4CC6C-C57C-4F98-A35B-FD370D26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B659-2DED-4DB9-8B23-242E0F57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E9BFF-A112-417C-9BDC-2658CB5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7D8B6-17F3-4720-A671-710743A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70C-0481-4AC5-A41F-DDFC749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FCC9D-9A0A-4CE1-8542-544C9B26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96E13-8D46-44ED-9C54-89FE5C5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C104-A36F-4554-ABAC-B63997F2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C3B1-0B53-400D-B7FC-6927C5D0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5416-572F-498B-862D-0519316A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9A479-D635-448C-BCA1-0C3A8698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3D0E8-2901-4F5B-8EDA-0F7427ED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B7871-FCF4-4012-902E-517667A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6C7B1-97AE-42D5-B4CE-E15A987F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74795-9506-4175-8328-4EF967AF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18F-5361-403B-BA04-E1E1FE7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58171-D742-4678-8589-C94D27AF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F15D3-C264-4C87-AEC1-6CB9F776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8CD1-116A-4D0C-842F-08126D08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3D6B0-3B0D-4AAA-8DE4-16371A58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3696-9555-4936-91AF-106A9738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D3839-2B15-4FE9-AC40-689AB3CD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530E-B011-4E1F-9D6C-CBD6794D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A640-C3EC-4CF9-95D9-0A2AE8AA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7A967-94A8-4B69-B2D0-AA363CF7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57B4D-9FF6-4E21-8B6A-06CC458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910-ACB8-4624-9BD0-F44DD95291C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1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1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1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EB9-1420-470F-A691-AA443D3182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894E-835A-469E-96AB-CD536DDF25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B83C-E3B7-4460-A5D4-E9F11EAE6D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709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8A26-0EC9-4FD0-985C-62C0086E2D3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2501-0C3D-4FD9-953B-BDB0CA1A1C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5D44-19E4-48C1-8B35-44E557EA43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4D37-83E5-49CC-AF91-11C9C33287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8DCE-6D97-4C50-9324-C1242D22C7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64CE-E793-4027-813E-22E1EC41C0CC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895-6E9B-450F-A4A2-198362CCDF69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6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DC72-85EB-4BFA-9F78-804F931E1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GITA IN CAMARGUE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 3° E  nella terra dei cavall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Verdana"/>
              </a:rPr>
              <a:t>Pensieri e parole: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Verdana"/>
              </a:rPr>
              <a:t>Le nostre emozioni da questa bella gita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Laura parla dell’anfiteatro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Il monumento che mi ha colpito maggiormente è stato l’anfiteatro. Già dall’esterno ho percepito un senso di imponenza e grandiosità che all’interno, poi, si è sensibilmente amplificato: ero solo una dei 25.000 possibili spettatori, davvero piccola a confron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l palazzo dei Papi secondo Nicol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iò che più mi ha colpito di questa gita sono state le incredibili dimensioni del palazzo dei Papi, dall’alto del quale ho potuto godere della vista di Avignone e delle mura che la circondan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Verdana"/>
              </a:rPr>
              <a:t>Torre del palazzo dei Papi, pensieri di Antonia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l monumento che mi ha colpito di più è stata una torre del palazzo dei Papi, dalla quale si poteva osservare uno dei più grandiosi e meravigliosi panorami della Camargue. Può sembrare strano che tra tutto quello che abbiamo visto e visitato mi abbia colpito una torre, ma è stata proprio quella semplicità e tranquillità che hanno suscitato in me una grande emozi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natura della Camargue percepita da Daniel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i rende felice il contatto con la natura, mi emoziona sapere che nascosti tra la vegetazione fanno il nido tante varietà di animali quali tassi, volpi e castori. Mi piace ascoltare i rumori della natura e osservare tutti gli esserini che popolano il paesaggio. Ed è straordinario per me sapere che i cavalli bianchi vengano allevati allo stato bra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udovica e il “Cafè de Nuit”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sservando il famoso locale dipinto da Van Gogh si percepiscono le sensazioni che il pittore voleva trasmettere e che rimarranno per sempre intrappolate in quelle pareti gialle e nelle luci che illuminano la notte france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LAVORO è PRESENTATO DA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457200" y="231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539640" y="5589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788000" y="5589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DO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6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aggio e arrivo ad Ar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po sette lunghe ore di pullman arriviamo ad Arles, città famosa per i celebri dipinti di Van Gogh e l’anfiteatr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Sere trasgressive in camargu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56620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niele si fa ammanettare allegramente da Anto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500720" cy="42642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716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330033"/>
                </a:solidFill>
                <a:latin typeface="Times New Roman"/>
              </a:rPr>
              <a:t>Dopo la notte brava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ianluca esausto si riposa in pullman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62276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5364000" y="5950080"/>
            <a:ext cx="37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508720" y="602136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meriggio a Saintes Maries de la 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24360" y="189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to di gruppo vicino all’acquedotto ro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2:20:19Z</dcterms:created>
  <dc:creator>G.A.</dc:creator>
  <dc:description/>
  <dc:language>en-US</dc:language>
  <cp:lastModifiedBy>Angelo Paganini</cp:lastModifiedBy>
  <dcterms:modified xsi:type="dcterms:W3CDTF">2006-07-01T22:31:04Z</dcterms:modified>
  <cp:revision>8</cp:revision>
  <dc:subject/>
  <dc:title>GITA IN CAMARGUE</dc:title>
</cp:coreProperties>
</file>